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23A-579B-4C6D-B4C2-DC2B8FBF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235-A9BE-4A0E-AF04-A8C42030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E1B-4028-41E8-99CA-3874747D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83A-D657-4DB9-B8C8-0FA89398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C90-DCD6-48E4-9191-FCB906FF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4F7-DD41-499A-A29B-63B4269E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4E5-12C1-429D-8BA0-647B7A1B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D24-EFFC-486F-9CFD-32F2D9A6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FD9-9C47-455B-8AB7-FFCBA37D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24F-0D67-4784-AA24-D16FFF9B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FEA-6951-4F12-B1F0-8D7BCF98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6C8-C479-4B87-99C6-481EA689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0649-C0BA-43EA-AA24-38E8CB17D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d: Aukse Sinickai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vita Taujanska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lack -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0000"/>
                </a:solidFill>
                <a:latin typeface="Arial"/>
              </a:rPr>
              <a:t>Red -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9900"/>
                </a:solidFill>
                <a:latin typeface="Arial"/>
              </a:rPr>
              <a:t>Yellow - fl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y 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is a federal parliamentary respublic in Europe. The country consists of 16 states while the capital and largest city is Berl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rmany live the most people in Europe (~81,8mln. peo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170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 to 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Germany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Rüdesheim has many attra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derwald monument, depicting the mythical figure of Germ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Rüdeshei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 pride of Ger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1962000" cy="2324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20620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Museum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land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rlin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eum 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Comple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Berlin Muse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land is very fam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Here are protec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 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19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ury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s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ae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mplex is very important of Germany.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3733920"/>
            <a:ext cx="419112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000000"/>
                </a:solidFill>
                <a:latin typeface="Arial"/>
              </a:rPr>
              <a:t>I like this countr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becau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in Germany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are very friendly, natural, ordered, art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In Germany  almost c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s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are very old and very order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0000"/>
                </a:solidFill>
                <a:latin typeface="Arial"/>
              </a:rPr>
              <a:t>Thank you for at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297180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5:27:23Z</dcterms:created>
  <dc:creator>RolandoPC</dc:creator>
  <dc:description/>
  <dc:language>en-US</dc:language>
  <cp:lastModifiedBy>Airidas</cp:lastModifiedBy>
  <dcterms:modified xsi:type="dcterms:W3CDTF">2011-10-18T16:34:22Z</dcterms:modified>
  <cp:revision>6</cp:revision>
  <dc:subject/>
  <dc:title>Germany</dc:title>
</cp:coreProperties>
</file>